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FE2-6FE3-4751-9442-B025287B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2DF-4549-44E9-A12B-18480F7B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260-BE2C-47B9-8ADC-98306275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7EE-C2F4-4FC4-84D8-ED89FED4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D49-E42D-449E-9D91-E9369EE5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419-7517-4BAF-A183-7C51735A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D0B-D655-4ED5-8D0E-E1632142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5D2-B729-41F3-81BC-4A12EB33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A6F-9303-4EA5-89B0-7DFF58A3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769-2107-4507-B21D-22A83ACB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A35-A61F-469B-90BB-D700A941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A5C-6F28-4345-9CA2-AB21B12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5869-586E-43AC-80B3-6892DBB08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50000">
              <a:srgbClr val="fae3b7"/>
            </a:gs>
            <a:gs pos="100000">
              <a:srgbClr val="fbe4a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holas Milba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wer point o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IENDS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21:13Z</dcterms:created>
  <dc:creator>CGB</dc:creator>
  <dc:description/>
  <dc:language>en-US</dc:language>
  <cp:lastModifiedBy>CGB</cp:lastModifiedBy>
  <dcterms:modified xsi:type="dcterms:W3CDTF">2008-06-09T13:46:53Z</dcterms:modified>
  <cp:revision>5</cp:revision>
  <dc:subject/>
  <dc:title>Nicholas Milbauer</dc:title>
</cp:coreProperties>
</file>